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3A1F-9804-4321-AB86-AEB3DCCC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3296-A5E0-4219-A5B3-65955BFB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9D5-D1D6-4BB2-8110-BEC043C6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B58C-F159-47DE-8C02-6256FF00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8DE-3751-4427-987C-7141C2B6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51D5-07AD-46DA-839E-FED43C17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7774-E1F0-4EF0-B5BE-9BD8D642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AF0F-74AA-4016-9A29-6C1F9DAD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8A6-EEC1-4EB6-A813-3A741400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ECF0-F093-4878-8FBA-959FEE8F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3DE-4F3B-4B67-B5D7-9692E05F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C0C-C272-47AB-B257-C71224D8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a Faith Dot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a Miss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a Miss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a Miss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a Miss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a Miss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a Miss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a Miss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ea Missy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ea Missy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ea Missy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A3A1-6F6A-4DF6-9E22-D326965F697B}" type="slidenum">
              <a:rPr b="0" lang="en-US" sz="1200" spc="-1" strike="noStrike">
                <a:solidFill>
                  <a:srgbClr val="898989"/>
                </a:solidFill>
                <a:latin typeface="Pea Miss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a Miss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13012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Pea Faith Dots"/>
              </a:rPr>
              <a:t>Solar System Unit Review</a:t>
            </a:r>
            <a:endParaRPr b="0" lang="en-US" sz="72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Pea Missy"/>
              </a:rPr>
              <a:t>Test Date: April 9, 2010</a:t>
            </a: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www.science.uwaterloo.ca/~cchieh/cact/fig/planets.jpg"/>
          <p:cNvPicPr/>
          <p:nvPr/>
        </p:nvPicPr>
        <p:blipFill>
          <a:blip r:embed="rId1"/>
          <a:srcRect l="0" t="0" r="11657" b="15595"/>
          <a:stretch/>
        </p:blipFill>
        <p:spPr>
          <a:xfrm>
            <a:off x="914400" y="2514600"/>
            <a:ext cx="6705720" cy="403848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2514600" y="4572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Pea Faith Dots"/>
              </a:rPr>
              <a:t>Our Solar System</a:t>
            </a:r>
            <a:endParaRPr b="0" lang="en-US" sz="54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914400" y="1371600"/>
            <a:ext cx="754380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a Missy"/>
              </a:rPr>
              <a:t>The Sun is at the center of our solar system.</a:t>
            </a:r>
            <a:endParaRPr b="0" lang="en-US" sz="16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Pea Missy"/>
              </a:rPr>
              <a:t>The planets orbit, or revolve, around the sun..</a:t>
            </a:r>
            <a:endParaRPr b="0" lang="en-US" sz="16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a Missy"/>
              </a:rPr>
              <a:t>Be sure you can label the planets in order.</a:t>
            </a:r>
            <a:endParaRPr b="0" lang="en-US" sz="1600" spc="-1" strike="noStrike">
              <a:solidFill>
                <a:srgbClr val="000000"/>
              </a:solidFill>
              <a:latin typeface="Pea Miss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8483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a Missy"/>
              </a:rPr>
              <a:t>Click on the link below to study vocabulary definitions on Quizlet.</a:t>
            </a:r>
            <a:endParaRPr b="0" lang="en-US" sz="20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838080" y="289548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a Faith Dots"/>
              </a:rPr>
              <a:t>Solar System Flashcards</a:t>
            </a:r>
            <a:endParaRPr b="0" lang="en-US" sz="6600" spc="-1" strike="noStrike">
              <a:solidFill>
                <a:srgbClr val="000000"/>
              </a:solidFill>
              <a:latin typeface="Pea Miss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crookhillprimary.org/Shadow%201.JPG"/>
          <p:cNvPicPr/>
          <p:nvPr/>
        </p:nvPicPr>
        <p:blipFill>
          <a:blip r:embed="rId1"/>
          <a:stretch/>
        </p:blipFill>
        <p:spPr>
          <a:xfrm>
            <a:off x="1676520" y="304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2786760" y="685800"/>
            <a:ext cx="4885200" cy="1434600"/>
          </a:xfrm>
          <a:prstGeom prst="rect">
            <a:avLst/>
          </a:prstGeom>
          <a:noFill/>
          <a:ln w="0">
            <a:noFill/>
          </a:ln>
          <a:effectLst>
            <a:outerShdw dist="38183" dir="135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b0f0"/>
                </a:solidFill>
                <a:latin typeface="Pea Faith Dots"/>
              </a:rPr>
              <a:t>Shadows</a:t>
            </a:r>
            <a:endParaRPr b="0" lang="en-US" sz="88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80880" y="2514600"/>
            <a:ext cx="83822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Pea Missy"/>
              </a:rPr>
              <a:t>In the morning, when the sun is rising in the EAST __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Pea Missy"/>
              </a:rPr>
              <a:t>, our shadows face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0000"/>
                </a:solidFill>
                <a:latin typeface="Pea Missy"/>
              </a:rPr>
              <a:t>WEST.</a:t>
            </a: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Pea Missy"/>
              </a:rPr>
              <a:t>In the afternoon, when the sun is setting in the WEST</a:t>
            </a:r>
            <a:r>
              <a:rPr b="0" lang="en-US" sz="1800" spc="-1" strike="noStrike">
                <a:solidFill>
                  <a:srgbClr val="00b0f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b0f0"/>
                </a:solidFill>
                <a:latin typeface="Pea Missy"/>
              </a:rPr>
              <a:t>, our shadows face EAST </a:t>
            </a:r>
            <a:r>
              <a:rPr b="0" lang="en-US" sz="1800" spc="-1" strike="noStrike">
                <a:solidFill>
                  <a:srgbClr val="00b0f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b0f0"/>
                </a:solidFill>
                <a:latin typeface="Pea Missy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Pea Missy"/>
              </a:rPr>
              <a:t>Our shadows are </a:t>
            </a:r>
            <a:r>
              <a:rPr b="1" lang="en-US" sz="1800" spc="-1" strike="noStrike">
                <a:solidFill>
                  <a:srgbClr val="ff0000"/>
                </a:solidFill>
                <a:latin typeface="Pea Missy"/>
              </a:rPr>
              <a:t>longest</a:t>
            </a:r>
            <a:r>
              <a:rPr b="0" lang="en-US" sz="1800" spc="-1" strike="noStrike">
                <a:solidFill>
                  <a:srgbClr val="ff0000"/>
                </a:solidFill>
                <a:latin typeface="Pea Missy"/>
              </a:rPr>
              <a:t> in the early morning and late afternoon, when the sun’s rays hit the Earth at more of an angle.</a:t>
            </a: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Pea Missy"/>
              </a:rPr>
              <a:t>Our shadows are </a:t>
            </a:r>
            <a:r>
              <a:rPr b="1" lang="en-US" sz="1800" spc="-1" strike="noStrike">
                <a:solidFill>
                  <a:srgbClr val="00b0f0"/>
                </a:solidFill>
                <a:latin typeface="Pea Missy"/>
              </a:rPr>
              <a:t>shortest</a:t>
            </a:r>
            <a:r>
              <a:rPr b="0" lang="en-US" sz="1800" spc="-1" strike="noStrike">
                <a:solidFill>
                  <a:srgbClr val="00b0f0"/>
                </a:solidFill>
                <a:latin typeface="Pea Missy"/>
              </a:rPr>
              <a:t> at </a:t>
            </a:r>
            <a:r>
              <a:rPr b="1" lang="en-US" sz="1800" spc="-1" strike="noStrike">
                <a:solidFill>
                  <a:srgbClr val="00b0f0"/>
                </a:solidFill>
                <a:latin typeface="Pea Missy"/>
              </a:rPr>
              <a:t>noon</a:t>
            </a:r>
            <a:r>
              <a:rPr b="0" lang="en-US" sz="1800" spc="-1" strike="noStrike">
                <a:solidFill>
                  <a:srgbClr val="00b0f0"/>
                </a:solidFill>
                <a:latin typeface="Pea Missy"/>
              </a:rPr>
              <a:t>, when the sun’s rays are most direct.</a:t>
            </a: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04920" y="4800600"/>
            <a:ext cx="48006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a Faith Dots"/>
              </a:rPr>
              <a:t>Moon Challenge</a:t>
            </a:r>
            <a:endParaRPr b="0" lang="en-US" sz="44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Pea Missy"/>
              </a:rPr>
              <a:t>Do the moon challenge by clicking on this link:</a:t>
            </a: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a Missy"/>
              </a:rPr>
              <a:t>Moon Challenge</a:t>
            </a: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14880" y="152280"/>
            <a:ext cx="45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ea Faith Dots"/>
              </a:rPr>
              <a:t>The Moon</a:t>
            </a:r>
            <a:endParaRPr b="0" lang="en-US" sz="7200" spc="-1" strike="noStrike">
              <a:solidFill>
                <a:srgbClr val="000000"/>
              </a:solidFill>
              <a:latin typeface="Pea Missy"/>
            </a:endParaRPr>
          </a:p>
        </p:txBody>
      </p:sp>
      <p:pic>
        <p:nvPicPr>
          <p:cNvPr id="53" name="Picture 2" descr="http://scienceblogs.com/startswithabang/upload/2010/01/a_moon-stravaganza/moon_phases.jpg"/>
          <p:cNvPicPr/>
          <p:nvPr/>
        </p:nvPicPr>
        <p:blipFill>
          <a:blip r:embed="rId1"/>
          <a:stretch/>
        </p:blipFill>
        <p:spPr>
          <a:xfrm>
            <a:off x="304920" y="106668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5334120" y="568440"/>
            <a:ext cx="32004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Pea Missy"/>
              </a:rPr>
              <a:t>The moon’s light comes from the sun’s reflection off of the moon’s surface.</a:t>
            </a:r>
            <a:endParaRPr b="0" lang="en-US" sz="16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Pea Missy"/>
              </a:rPr>
              <a:t>The moon’s phases are caused by the moon’s revolving around the Earth.</a:t>
            </a:r>
            <a:endParaRPr b="0" lang="en-US" sz="16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Pea Missy"/>
              </a:rPr>
              <a:t>The moon rotates on its axis. It takes approx. 29 days to make one full rotation on its axis, and one full revolution around the Earth.</a:t>
            </a:r>
            <a:endParaRPr b="0" lang="en-US" sz="1600" spc="-1" strike="noStrike">
              <a:solidFill>
                <a:srgbClr val="000000"/>
              </a:solidFill>
              <a:latin typeface="Pea Miss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371600" y="914400"/>
            <a:ext cx="518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Pea Faith Dots"/>
              </a:rPr>
              <a:t>Rotation vs. Revolution</a:t>
            </a:r>
            <a:endParaRPr b="0" lang="en-US" sz="6000" spc="-1" strike="noStrike">
              <a:solidFill>
                <a:srgbClr val="000000"/>
              </a:solidFill>
              <a:latin typeface="Pea Miss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28600" y="3733920"/>
            <a:ext cx="34290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Pea Missy"/>
              </a:rPr>
              <a:t>It takes the Earth 24 hours to make one full rotation on its axis.</a:t>
            </a:r>
            <a:endParaRPr b="0" lang="en-US" sz="15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f0"/>
                </a:solidFill>
                <a:latin typeface="Pea Missy"/>
              </a:rPr>
              <a:t>Day and night are caused by Earth’s rotation on its axis.</a:t>
            </a:r>
            <a:endParaRPr b="0" lang="en-US" sz="15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Pea Missy"/>
              </a:rPr>
              <a:t>The Earth rotates east</a:t>
            </a:r>
            <a:r>
              <a:rPr b="0" lang="en-US" sz="15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500" spc="-1" strike="noStrike">
                <a:solidFill>
                  <a:srgbClr val="ff0000"/>
                </a:solidFill>
                <a:latin typeface="Pea Missy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4724280" y="3733920"/>
            <a:ext cx="419112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ea Missy"/>
              </a:rPr>
              <a:t>It takes the Earth approx. 365 days for the Earth to make one full revolution around the sun.</a:t>
            </a:r>
            <a:endParaRPr b="0" lang="en-US" sz="15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030a0"/>
                </a:solidFill>
                <a:latin typeface="Pea Missy"/>
              </a:rPr>
              <a:t>The Earth orbits east</a:t>
            </a:r>
            <a:r>
              <a:rPr b="0" lang="en-US" sz="1500" spc="-1" strike="noStrike">
                <a:solidFill>
                  <a:srgbClr val="7030a0"/>
                </a:solidFill>
                <a:latin typeface="Wingdings"/>
                <a:ea typeface="Wingdings"/>
              </a:rPr>
              <a:t></a:t>
            </a:r>
            <a:r>
              <a:rPr b="0" lang="en-US" sz="1500" spc="-1" strike="noStrike">
                <a:solidFill>
                  <a:srgbClr val="7030a0"/>
                </a:solidFill>
                <a:latin typeface="Pea Missy"/>
              </a:rPr>
              <a:t> around the sun.</a:t>
            </a:r>
            <a:endParaRPr b="0" lang="en-US" sz="15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ea Missy"/>
              </a:rPr>
              <a:t>The tilt of the Earth and the Earth’s location in its revolution around the Sun cause the seasons.</a:t>
            </a:r>
            <a:endParaRPr b="0" lang="en-US" sz="1500" spc="-1" strike="noStrike">
              <a:solidFill>
                <a:srgbClr val="000000"/>
              </a:solidFill>
              <a:latin typeface="Pea Missy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0" y="533520"/>
            <a:ext cx="3733920" cy="2883240"/>
            <a:chOff x="0" y="533520"/>
            <a:chExt cx="3733920" cy="2883240"/>
          </a:xfrm>
        </p:grpSpPr>
        <p:pic>
          <p:nvPicPr>
            <p:cNvPr id="59" name="Picture 2" descr="http://evolutionarypathwayves.files.wordpress.com/2008/10/earth_rotation.jpg"/>
            <p:cNvPicPr/>
            <p:nvPr/>
          </p:nvPicPr>
          <p:blipFill>
            <a:blip r:embed="rId1"/>
            <a:stretch/>
          </p:blipFill>
          <p:spPr>
            <a:xfrm>
              <a:off x="380880" y="533520"/>
              <a:ext cx="1841400" cy="23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ectangle 6"/>
            <p:cNvSpPr/>
            <p:nvPr/>
          </p:nvSpPr>
          <p:spPr>
            <a:xfrm>
              <a:off x="0" y="2896560"/>
              <a:ext cx="373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ea Missy"/>
                </a:rPr>
                <a:t>This is a picture of the Earth rotating on its axis.</a:t>
              </a:r>
              <a:endParaRPr b="0" lang="en-US" sz="1400" spc="-1" strike="noStrike">
                <a:solidFill>
                  <a:srgbClr val="000000"/>
                </a:solidFill>
                <a:latin typeface="Pea Missy"/>
              </a:endParaRPr>
            </a:p>
          </p:txBody>
        </p:sp>
      </p:grpSp>
      <p:grpSp>
        <p:nvGrpSpPr>
          <p:cNvPr id="61" name="Group 10"/>
          <p:cNvGrpSpPr/>
          <p:nvPr/>
        </p:nvGrpSpPr>
        <p:grpSpPr>
          <a:xfrm>
            <a:off x="5334120" y="228600"/>
            <a:ext cx="3616200" cy="3552840"/>
            <a:chOff x="5334120" y="228600"/>
            <a:chExt cx="3616200" cy="3552840"/>
          </a:xfrm>
        </p:grpSpPr>
        <p:pic>
          <p:nvPicPr>
            <p:cNvPr id="62" name="Picture 4" descr="http://www.learner.org/jnorth/images/imageshtml/earth-tilt.gif"/>
            <p:cNvPicPr/>
            <p:nvPr/>
          </p:nvPicPr>
          <p:blipFill>
            <a:blip r:embed="rId2"/>
            <a:stretch/>
          </p:blipFill>
          <p:spPr>
            <a:xfrm>
              <a:off x="5334120" y="228600"/>
              <a:ext cx="3543120" cy="28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9"/>
            <p:cNvSpPr/>
            <p:nvPr/>
          </p:nvSpPr>
          <p:spPr>
            <a:xfrm>
              <a:off x="5334120" y="3048120"/>
              <a:ext cx="3616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ea Missy"/>
                </a:rPr>
                <a:t>This is a picture of the Earth revolving around the sun. </a:t>
              </a:r>
              <a:endParaRPr b="0" lang="en-US" sz="1400" spc="-1" strike="noStrike">
                <a:solidFill>
                  <a:srgbClr val="000000"/>
                </a:solidFill>
                <a:latin typeface="Pea Missy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Pea Missy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learner.org/jnorth/images/imageshtml/earth-tilt.gif"/>
          <p:cNvPicPr/>
          <p:nvPr/>
        </p:nvPicPr>
        <p:blipFill>
          <a:blip r:embed="rId1"/>
          <a:stretch/>
        </p:blipFill>
        <p:spPr>
          <a:xfrm>
            <a:off x="228600" y="1674720"/>
            <a:ext cx="4800600" cy="3811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-538200" y="0"/>
            <a:ext cx="448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b050"/>
                </a:solidFill>
                <a:latin typeface="Pea Faith Dots"/>
              </a:rPr>
              <a:t>Seasons</a:t>
            </a:r>
            <a:endParaRPr b="0" lang="en-US" sz="88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724280" y="762120"/>
            <a:ext cx="419112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ea Missy"/>
              </a:rPr>
              <a:t>The tilt of the Earth and the Earth’s location in its revolution around the Sun cause the seasons.</a:t>
            </a:r>
            <a:endParaRPr b="0" lang="en-US" sz="15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c000"/>
                </a:solidFill>
                <a:latin typeface="Pea Missy"/>
              </a:rPr>
              <a:t>Whichever hemisphere is tilted towards the sun receives more direct rays than the hemisphere facing away from the sun.</a:t>
            </a:r>
            <a:endParaRPr b="0" lang="en-US" sz="15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ea Missy"/>
              </a:rPr>
              <a:t>If it is winter in the northern hemisphere, it is summer in the southern hemisphere. It is always the opposite season in the 2 different hemispheres.</a:t>
            </a:r>
            <a:endParaRPr b="0" lang="en-US" sz="15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c000"/>
                </a:solidFill>
                <a:latin typeface="Pea Missy"/>
              </a:rPr>
              <a:t>The equator has very little change of seasons because it receives direct rays most of the year.</a:t>
            </a:r>
            <a:endParaRPr b="0" lang="en-US" sz="1500" spc="-1" strike="noStrike">
              <a:solidFill>
                <a:srgbClr val="000000"/>
              </a:solidFill>
              <a:latin typeface="Pea Miss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4:40:12Z</dcterms:created>
  <dc:creator>szonis</dc:creator>
  <dc:description/>
  <dc:language>en-US</dc:language>
  <cp:lastModifiedBy>Shannon Bell</cp:lastModifiedBy>
  <dcterms:modified xsi:type="dcterms:W3CDTF">2010-04-08T11:09:17Z</dcterms:modified>
  <cp:revision>46</cp:revision>
  <dc:subject/>
  <dc:title>Slide 1</dc:title>
</cp:coreProperties>
</file>